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15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1CFE-B241-40E0-8D08-4F4FBEA5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DF63-8238-4BD4-B5C3-A5A152C4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1437-A891-4E95-9ED9-0ADEEB2E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7495-BEC0-4FF5-8855-C89F6CD2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FB57-BA54-45E4-9681-6CB72660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6FAD-C82E-4C9F-B0F4-E23D2F55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BB3D-E025-4A24-92C2-B81F06F9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9B13-0D9C-4F73-BC6C-89C159B9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002A-6CB4-44B8-ADD0-55022F40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E98F-0825-4EC2-96CF-A4965C98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6FE1-E15A-452B-AA91-3CDBB285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102-5F3E-4357-BAB4-847D77BB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DF53-EA8F-44A1-B747-D009EC38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89C2-E67A-4B1D-A04D-C0A9FF10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5813-3106-4A92-86EE-27C33AF6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6B21-0C4F-492C-A123-65F4E795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0D14-352F-484E-83FE-B765E2D1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FDC-8598-41AB-AC92-3008692D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D0E-2348-4435-A7B3-336A2CE3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E601-5AF0-487D-86CA-2D4FAC2C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3AF-BADB-406D-8915-4621BA0F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268-3AB1-4270-B4BA-B6FCDFE1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73B7-DC4D-48F3-AF44-F0021DAC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7DC3-32B6-4015-A639-DCBCB261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6E6D-0413-4D63-ACFD-06EB0AD6A7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1681-F2B3-4F48-8889-85F1B1DC12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image" Target="../media/image11.pct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312408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Volcanic Activity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P Book Chapter 18, pg. 470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pplied Book Chapter 12, pg. 334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62720" y="393840"/>
            <a:ext cx="286056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omposite Volcano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St. Helens (foregro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Raini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ackgro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Fuj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62520" y="2895480"/>
            <a:ext cx="47750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Magma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505320" y="2552760"/>
            <a:ext cx="561312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Ring of Fir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1895400"/>
            <a:ext cx="813600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Types of Magma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8077320" cy="2727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48440" y="1857240"/>
            <a:ext cx="591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altic, Andesitic and Rhyoli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Anatomy of a Volcano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a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de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5422680" cy="2700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257800" y="1600200"/>
            <a:ext cx="3505320" cy="2846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21720" y="5824440"/>
            <a:ext cx="17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ater nea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taff, Ariz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63480" y="2130480"/>
            <a:ext cx="1805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ater Lake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aldera creat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eruptions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nt Maza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How calderas form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254240" y="152280"/>
            <a:ext cx="1717560" cy="6629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55560" y="2286000"/>
            <a:ext cx="5645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eruptions occur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ly empty mag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mber collapses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dera eventually fill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Types of Volcano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61722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ie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nder-c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s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15000" y="3073320"/>
            <a:ext cx="1193760" cy="736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334120" y="4152960"/>
            <a:ext cx="1930320" cy="64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191120" y="1981080"/>
            <a:ext cx="41907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hield Volcano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una Loa, Hawai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 the backgro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7226280" cy="2921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926240" y="5486400"/>
            <a:ext cx="315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una Kea, a cinder con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fore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inder-cone volcano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icutan, Mex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una Kea, Hawai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elow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3967200"/>
            <a:ext cx="6477120" cy="2890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410080" y="1600200"/>
            <a:ext cx="327672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22:25:31Z</dcterms:created>
  <dc:creator>PA Department of Education</dc:creator>
  <dc:description/>
  <dc:language>en-US</dc:language>
  <cp:lastModifiedBy>PA Department of Education</cp:lastModifiedBy>
  <dcterms:modified xsi:type="dcterms:W3CDTF">2008-01-30T18:27:37Z</dcterms:modified>
  <cp:revision>17</cp:revision>
  <dc:subject/>
  <dc:title>Volcanic Activity</dc:title>
</cp:coreProperties>
</file>